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wmf" ContentType="image/x-wmf"/>
  <Override PartName="/ppt/media/image5.png" ContentType="image/png"/>
  <Override PartName="/ppt/media/image10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FB0EA-B5E6-49E9-8BEE-1D154EFCA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D6DBE-B5EA-4ECD-81D2-25BE25488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9D164-97C9-4349-88B9-CB2EC6CEC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2A7E1-1ACA-4E7D-9C69-EEE7B8AD7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51741-3CA1-4814-8153-EF3CC15D0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28340-2DF7-4775-8A08-A727A8E6F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40A59-8CC1-4A31-9F4E-187A4F191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249CC-0EEB-40A3-8331-B8AFC5CBA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5B2AC-97CB-4CCC-8B7E-441F65910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33F4E-678B-4757-983A-5C3FA87D4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E6A64-F9EB-409F-8A61-8F0BB1C3D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F9CA7-415C-4511-8247-4C69FA047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B70E1-0E3B-4F1B-AF7D-599D32EC38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png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image" Target="../media/image11.wmf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esson 8.5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ivision Properties of Expon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33520" y="1752480"/>
            <a:ext cx="65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bjective 1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ividing Powers with the Same 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85800" y="2438280"/>
            <a:ext cx="4983120" cy="10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28600" y="457200"/>
            <a:ext cx="5105520" cy="7142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09480" y="1676520"/>
            <a:ext cx="990720" cy="9334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4191120" y="1828800"/>
            <a:ext cx="1218960" cy="102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80880" y="762120"/>
            <a:ext cx="7467840" cy="131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80880" y="533520"/>
            <a:ext cx="3576600" cy="5839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304920" y="1676520"/>
            <a:ext cx="6324480" cy="15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04920" y="762120"/>
            <a:ext cx="6705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28600" y="380880"/>
            <a:ext cx="7010280" cy="8971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57200" y="1676520"/>
            <a:ext cx="1295280" cy="8366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4495680" y="1752480"/>
            <a:ext cx="1143000" cy="5652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762120" y="3809880"/>
            <a:ext cx="1371600" cy="100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1T15:14:15Z</dcterms:created>
  <dc:creator>Susannah Graham</dc:creator>
  <dc:description/>
  <dc:language>en-US</dc:language>
  <cp:lastModifiedBy>grahams</cp:lastModifiedBy>
  <dcterms:modified xsi:type="dcterms:W3CDTF">2010-10-05T18:14:12Z</dcterms:modified>
  <cp:revision>3</cp:revision>
  <dc:subject/>
  <dc:title>Lesson 8.5 Division Properties of Exponents</dc:title>
</cp:coreProperties>
</file>